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D0B-772D-47AD-A54B-F49AEF65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0EF-BA9C-4DED-9292-025F56C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4F8-C397-47FB-80B7-BB84608D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764-5F4C-4286-A0EA-351238ED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73E9-01CF-439F-A631-903386B4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C549-136C-4DEC-9D5D-507E7C14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1490-E2C7-4224-83C8-8348A381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5DF7-BD6E-45F5-898F-D167670C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3A33-F0FC-457D-8687-00150C00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7090-9C3B-4BBD-B5F3-D8BAB309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43FB-6463-47CC-AFF2-D32E9F79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D92-2575-4CF8-ABF7-137E0193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ECDB-D8F5-42C9-869A-BE39FDDF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4397-4F68-47A0-B240-3EE9856F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3AB0-A1FC-41A6-B713-3C071E09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537D-1C6F-422D-BC13-33D3205A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C13D-BFF7-4FFA-8952-C274DC0E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8E2-B557-43CE-8603-52373AD8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82F-0A68-4984-A5A4-FC9B1C85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3EE-24BC-4C06-B576-990867AF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708-B384-4BC6-B287-7E7F187E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ED3-32A2-489D-8887-5259A12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E94-80F2-4275-B098-EE1672E7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75C-B37D-462B-B9F6-5F374153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F07-60DB-48DA-92AD-0DCB802CAD39}" type="slidenum"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F83A-4897-4B20-847F-0A825A72027F}" type="slidenum">
              <a:rPr b="0" lang="nb-N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b2b2b2"/>
                </a:solidFill>
                <a:latin typeface="Book Antiqua"/>
              </a:rPr>
              <a:t>Web Log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Book Antiqua"/>
              </a:rPr>
              <a:t>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b2b2b2"/>
                </a:solidFill>
                <a:latin typeface="Arial"/>
              </a:rPr>
              <a:t>English Subject Curriculu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ulture, society and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 aims of the studies are to enable pupils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alyse and assess the role of some English-language media in international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Arial"/>
              </a:rPr>
              <a:t>Blogs</a:t>
            </a:r>
            <a:r>
              <a:rPr b="0" lang="en-GB" sz="2000" spc="-1" strike="noStrike">
                <a:solidFill>
                  <a:srgbClr val="b2b2b2"/>
                </a:solidFill>
                <a:latin typeface="Arial"/>
              </a:rPr>
              <a:t> – </a:t>
            </a:r>
            <a:br>
              <a:rPr sz="2000"/>
            </a:br>
            <a:r>
              <a:rPr b="0" lang="en-GB" sz="2000" spc="-1" strike="noStrike">
                <a:solidFill>
                  <a:srgbClr val="b2b2b2"/>
                </a:solidFill>
                <a:latin typeface="Arial"/>
              </a:rPr>
              <a:t>One of the Most Popular Forms of Communication on the Internet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out 1,6 million post on blogs every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 million post on days when there is an event that catches worldwide attention (e.g. natural disast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new blogs are created every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timates indicate that there are 60 million b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b2b2b2"/>
                </a:solidFill>
                <a:latin typeface="Arial"/>
              </a:rPr>
              <a:t>English, Japanese and Chine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ost blogs are in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nglish is followed by Japanese and Chin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80% of all blogs are in these three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b2b2b2"/>
                </a:solidFill>
                <a:latin typeface="Arial"/>
              </a:rPr>
              <a:t>Blog Cont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o, what do people talk abou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nything and everyth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oli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Current worl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oral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Global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hilosophical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Lo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Celebr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C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chool and academic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Litera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nvironmental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b2b2b2"/>
                </a:solidFill>
                <a:latin typeface="Arial"/>
              </a:rPr>
              <a:t>Med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dia encourage bloggers to post their comments to news 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participate in discussions and debates about current news events and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A Gigantic Global Ch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ogs reach millions of people instant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ople in countries with high levels of state control of the media have found freedom of speech through b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governments are starting to try to censor blogs (e.g. Ch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b2b2b2"/>
                </a:solidFill>
                <a:latin typeface="Arial"/>
              </a:rPr>
              <a:t>By Nina Sandstrom Angelsen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12-01T00:12:2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